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1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1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 type="sldNum" idx="1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686E-9487-4D55-8287-B588CCC33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E216-D8C5-468A-9825-47B80F7E5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support teaching and learning activities in various content are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0B98-44D4-4C68-AFAC-023A4ABCF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D86D-ADE5-43A4-985D-AA80E596B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help teachers and students produce instructional materi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DF4C-DDAA-4777-B98B-BBE672E23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help teachers collect and organize information that indicates student prog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D1D7-1E56-40BE-ACE5-C401342D1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allow the manipulation of images to illustrate documents and web pa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4C48-0507-490C-8B77-EB3DCEB1C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help teachers and students conceptualize, organize, and communicate their ide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F28C-9908-41E1-85BB-98E354D91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let students look up information in electronic versions of encyclopedias, atlases, and dictiona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4F0D0C-3F9E-40EB-83D9-6B8AB4A9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92F41A-CCE8-4AC8-B021-C26E48AE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0211F7-4609-4924-8279-044A2748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6DCD25-ABD2-45F6-BEDB-50EB14C6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56157F-8AB7-417F-BDC8-38A6562A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71F993-0FB6-456A-9E69-421E4E62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44837D-41AC-4F79-B54F-5536F309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E9DDAD-5EDD-4BD8-A4B6-60F0D789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7556BB-2D1C-41D0-BA3C-78D2EC05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F391-892D-47A7-817B-66DCD9EC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DA83-87AA-4BE3-BC2C-5672510B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28DE-A7F6-412C-B7E7-DC526811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6E7D-2AA1-4D88-AA17-29137439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044-E9BD-4F76-B731-7561DA77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D183-178F-4529-9B05-5775B5AB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531E-DCDD-4927-84C4-7B976EC7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40B8-7332-4468-8C17-16ED3088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650E-8B0F-4FA0-A06A-63990FF6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6D26-6488-45F2-97A7-9E67413D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1DF1-C361-4AC9-BE50-91296C1F9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DCDF-653D-47D4-B60B-BE4C2FD6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8E9BD-F4BF-4E58-8271-837A027F835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28EB2-C7A3-4B0A-97DB-BDF17DA3E8A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DBE59-53DB-4738-A527-C4F944136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46C87-7450-42AD-ABC6-55042BEC68D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E7024-0555-4EE0-BFE5-A5396EE917C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298C3-B777-4366-825D-377BB570522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A5B44-D8FA-4E5C-A7D4-253517C2B67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324B8-3C74-472B-B948-38C0096979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DD6E6-0E94-479B-96A3-BC35CE8E487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F7705-7154-484F-BAF4-A96E8DF47E8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6F14C-8B35-4FFF-80C0-E4DF53984B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E2991-381D-453F-99CD-9217FE93A33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B3263-0498-4D83-8DEB-69A071F2C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007E5-223B-4020-BF0B-5D33DA5AAD1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98764-D932-4D94-98E1-74CC97D6F5E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13FCB-3CA3-4A1D-844B-B479635866E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DDDD8-98A4-419A-8BF1-920ACBE3B32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9F82D-5D89-428D-A37D-3633402DE01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C82C6-0275-4243-A7B2-7F9E249D47B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17E09-2AA4-4AAA-85C7-C93259A57C4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AAB8B-BF61-4EEC-A5A2-780C50A4CAB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F8423-64E6-4115-81A3-B0DB2DD4DE7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27E7D-EE4F-4131-9DF9-98BBAA270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F47B4-81DB-4B92-9313-DDCA108FD06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4382-B1D6-4DAD-9DD6-1B3AB91032F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03CC-D615-4F7B-A459-799F5224999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2976-C62E-40E4-B3B3-C6F2C9732BB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9E45-E3D0-4113-809F-564687C7774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2679-559E-449E-85B6-98F908471CC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5BB6-010C-4260-A722-DB638603A10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5D0E-BA4D-42FD-A6E5-2035E344206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9FD3-BB98-4E34-9344-5B633C570FF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BB01-ADE1-4A53-B1B5-FCDE8656D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DB73-54EF-4AF2-8FDC-A4F901FF249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74FA-CCC0-464F-AB43-67E5CBBAE9A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EAE8-707B-4558-830A-1A692FEABA4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00D21-3195-4AF0-8B9A-52BB9B0848B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3CCFC8-8167-48ED-B530-A3092A2C7D6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F965A-B6CD-48FA-9CD2-9E98FF201D0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E7DFD3-1322-4AE7-9828-27892CC6338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7E618F-16F6-41A2-B9CB-3AACA550FCD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6ECBBF-26D2-41E5-AF33-B2EE0145AEE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6E51F9-1C75-4931-A255-E36761105E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208172-40DD-42C6-9CD9-496FBB752D5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DE6FFD-7F1E-46A9-A22D-800F5C849E7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29344C-317C-494F-8CAA-A5F6344263C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EC544-C839-4FB6-BE55-2E4E2EAA6C6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8F96DA-A43A-4D6A-9D3C-84368B8A52B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6B9434-255E-4A8C-A4FA-19FF2AE6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C0F32E-5A90-4383-B64F-8710A015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EB9289-0723-45EB-9FC2-DB37814C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759BBB-DA03-4D78-9D56-9A84A803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D17C12-2F57-4FCA-BA66-1197FE5F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0F6AFD-FE69-41BE-A596-F3C069DA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B764CB-E25A-46F7-8A12-1B0C8A94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9E153E-09F5-4486-873B-BD5C4511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88915E-9C07-4365-99E5-28FBEB3F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A5634B-32C1-4366-8681-1F00928C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99284B-6614-4217-B81D-748E6B9C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CFF097-121A-4C4A-A020-1ADCC58F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BB62CA-7FF4-48D6-BEB5-8AB60564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FA94C2-5ECF-4986-BC34-B213ED8A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A7D28E-42D4-47E8-9F41-0FB453D0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5.</a:t>
            </a:r>
            <a:fld id="{84B8D8B9-1182-48C8-A298-B8D9E27E4DA4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8158-5B7D-4388-880B-5ECDA669EDB4}" type="datetime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C544-1396-4E88-89FD-F4235DC2D4B1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" descr="CompanionWebSite Back"/>
          <p:cNvPicPr/>
          <p:nvPr/>
        </p:nvPicPr>
        <p:blipFill>
          <a:blip r:embed="rId3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5.</a:t>
            </a:r>
            <a:fld id="{09CE2CEC-CECE-4762-AEB6-1E20B8A04F9D}" type="slidenum"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26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5.</a:t>
            </a:r>
            <a:fld id="{D1BB3CE6-E1D2-4C4D-8B41-61ADDECF0C3F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FB2E4FBB-EA45-46C7-A050-F90AC79ABE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5.</a:t>
            </a:r>
            <a:fld id="{4511C34B-1E4B-4BB3-9F24-935994690D41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5D3F1C3B-587C-49F1-BAF3-257374E41B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5.</a:t>
            </a:r>
            <a:fld id="{0F090D38-C45C-4C69-8685-6B9169536D8D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8FD14658-250C-4917-9184-21692A5554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5.</a:t>
            </a:r>
            <a:fld id="{DF26BA4F-975A-4518-A8C3-EE00A9680BA2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UC 6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fld id="{BCEA3406-441B-4283-815E-9701C8C68F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8" descr="CompanionWebSite Back"/>
          <p:cNvPicPr/>
          <p:nvPr/>
        </p:nvPicPr>
        <p:blipFill>
          <a:blip r:embed="rId3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5.</a:t>
            </a:r>
            <a:fld id="{58318748-3108-4C78-9772-F95AFA5891CB}" type="slidenum"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1026" descr="CompanionWebSite Back"/>
          <p:cNvPicPr/>
          <p:nvPr/>
        </p:nvPicPr>
        <p:blipFill>
          <a:blip r:embed="rId4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9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A966-96F0-4CD7-A8B4-EAAE7CA423DB}" type="datetime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0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1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30B0-0825-4D8B-B043-6BAA95C1A05E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8" descr="CompanionWebSite Back"/>
          <p:cNvPicPr/>
          <p:nvPr/>
        </p:nvPicPr>
        <p:blipFill>
          <a:blip r:embed="rId3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5.</a:t>
            </a:r>
            <a:fld id="{C4C99728-266E-48A8-8434-1F24B8DE92A0}" type="slidenum"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2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2B72-3B2B-4631-B7D5-355C0092B1D1}" type="datetime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13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14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7B18-0CCB-4433-B6EC-2228C01B1BDE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682560" y="1517760"/>
            <a:ext cx="7785000" cy="14810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914400" y="2362320"/>
            <a:ext cx="7315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eaching with Software Tools: Beyond the Basic Program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228600" y="4724280"/>
            <a:ext cx="8534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174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Box 10"/>
          <p:cNvSpPr/>
          <p:nvPr/>
        </p:nvSpPr>
        <p:spPr>
          <a:xfrm>
            <a:off x="914400" y="121932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riffonShadow"/>
              </a:rPr>
              <a:t>Technology</a:t>
            </a:r>
            <a:r>
              <a:rPr b="0" lang="en-US" sz="2400" spc="-1" strike="noStrike">
                <a:solidFill>
                  <a:srgbClr val="000000"/>
                </a:solidFill>
                <a:latin typeface="GriffonShadow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GriffonShadow"/>
              </a:rPr>
              <a:t>and Teaching in Lear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474040" cy="14396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AD system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MIDI tool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Music editors &amp; sequenc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Reading Tool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robewar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Microcomputer-based labs (MBL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raphing Calculators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alculator-based labs (CBL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PS and GIS system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lobal positioning and geographic information syste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1984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mproves efficiency and productiv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mproves appeara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etter accuracy and timeliness of inform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More support for interaction and shar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37480" cy="11588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Materials generato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ata collection and analysis too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raphics too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lanning and organizing too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Research and reference too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ontent-area too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0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3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Netbooks, PDAs, and cell phon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Web-connectivity featur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oftware suit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3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esktop publishing softw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est and rubric generato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Worksheets and puzzle generato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EP generato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raphic document mak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DF and forms mak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6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324000" y="268200"/>
            <a:ext cx="8582040" cy="11588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lectronic gradebook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tatistical packag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tudent information systems (SI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omputer-based testing syste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omputer adaptive testing (CAT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tudent response syste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lassroom response systems or “clickers”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9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rawing and painting progra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mage editing too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harting and graphing too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igitizing &amp; Video Development Syste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lip art, animation, sound, video and font collec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2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378000" y="268200"/>
            <a:ext cx="8491320" cy="11588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Outlining tools and concept mapping softw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Lesson planning softw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cheduling and time management too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5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965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lectronic encyclopedia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lectronic atlases and mapping too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lectronic dictionaries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(word atlases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8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22:43:09Z</dcterms:created>
  <dc:creator>Terence W. Cavanaugh</dc:creator>
  <dc:description/>
  <dc:language>en-US</dc:language>
  <cp:lastModifiedBy>cregan</cp:lastModifiedBy>
  <dcterms:modified xsi:type="dcterms:W3CDTF">2010-03-31T15:06:36Z</dcterms:modified>
  <cp:revision>46</cp:revision>
  <dc:subject>Teaching with the Software Tools: Beyond the Basics Programs</dc:subject>
  <dc:title>Chapter 5</dc:title>
</cp:coreProperties>
</file>